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CCBF5C-1B1D-47EA-8C55-766A68E7E8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8EF18D-6B91-4957-996C-5232FEB302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571DCB-5321-4591-960D-E73234E827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150B37-72A1-46F9-8FCC-BA73153C58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8D648D-682C-4FB8-AF71-51E945E51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89FB0C-136E-4E19-AA3E-D5B3761D1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BBB97B-2389-4F5D-96E7-85D674AA8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C2D039-04A0-4809-9DA1-6CB1D601D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B5648B-AB21-4DB5-8AE0-8D5F5E8F4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533520" y="2286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B20DCA-3EBF-4F03-B2C7-A42AFC225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38BEDB-A2CC-4482-A256-720A0367E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E3A40F-513A-4C35-94BC-E633D3B12D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CE960E-02DB-436E-9F5E-4B959E444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F0AB9E-C7B4-4772-A16D-DAAB6B696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8669B4-B148-41BB-9393-E78B800D3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4184E6-C968-4BB1-A38E-9107AF4AB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E79493-C901-4F38-9AAF-4C7DF7DA7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A90A6F-A640-473C-B708-C680995D3F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E0EEEA-B106-4000-9298-3202C01DBC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293C8D-7680-4C31-8E94-64538F2C22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33520" y="2286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E7E566-1763-4E08-97BC-1EFFE37996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0D9568-D38D-4ACE-9204-50B97F8E21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988EF8-BE20-4D27-BFE2-132F2A697A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B95378-372F-4A60-9585-7989164C20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520" y="6172200"/>
            <a:ext cx="4953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E9AA8-47B7-48D7-9816-4BDBF624610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625A8-95C4-4F4D-A9F1-97D700E4AE6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9520" y="1904760"/>
            <a:ext cx="487692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Quality Manual Structure and Cont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" name="Picture 11" descr="HHS-Logo-blue"/>
          <p:cNvPicPr/>
          <p:nvPr/>
        </p:nvPicPr>
        <p:blipFill>
          <a:blip r:embed="rId1"/>
          <a:stretch/>
        </p:blipFill>
        <p:spPr>
          <a:xfrm>
            <a:off x="41148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" descr="2BSLATH"/>
          <p:cNvPicPr/>
          <p:nvPr/>
        </p:nvPicPr>
        <p:blipFill>
          <a:blip r:embed="rId2"/>
          <a:stretch/>
        </p:blipFill>
        <p:spPr>
          <a:xfrm>
            <a:off x="4876920" y="6172200"/>
            <a:ext cx="761760" cy="5493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6" descr="WHO-EN-C-H"/>
          <p:cNvPicPr/>
          <p:nvPr/>
        </p:nvPicPr>
        <p:blipFill>
          <a:blip r:embed="rId3"/>
          <a:stretch/>
        </p:blipFill>
        <p:spPr>
          <a:xfrm>
            <a:off x="5715000" y="6172200"/>
            <a:ext cx="1828800" cy="560520"/>
          </a:xfrm>
          <a:prstGeom prst="rect">
            <a:avLst/>
          </a:prstGeom>
          <a:ln w="0">
            <a:noFill/>
          </a:ln>
        </p:spPr>
      </p:pic>
      <p:grpSp>
        <p:nvGrpSpPr>
          <p:cNvPr id="108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09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1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2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2" name=""/>
          <p:cNvSpPr/>
          <p:nvPr/>
        </p:nvSpPr>
        <p:spPr>
          <a:xfrm>
            <a:off x="3581280" y="1828800"/>
            <a:ext cx="495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Visual Ai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C2A46D-7B5F-49E7-B1DF-62634508E41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93840" y="946080"/>
            <a:ext cx="8356320" cy="4965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725B12-DB04-4BB6-8BDC-586A8A49973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03040" y="546120"/>
            <a:ext cx="8737920" cy="5765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A98D22-BB6C-460C-9433-4F522381D88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90440" y="635040"/>
            <a:ext cx="8763120" cy="5587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1C5A60-C2BF-4E33-B34B-B2CEE918D11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38240" y="550800"/>
            <a:ext cx="8866080" cy="5754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40CC49-A8E3-47C1-9631-D7383D652D7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209680" y="457200"/>
            <a:ext cx="4459320" cy="5838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DF2625-6F80-4FA8-9B98-68934014548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438280" y="457200"/>
            <a:ext cx="4232520" cy="5486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968F9B-ABAB-4475-BA1F-A86FFDD209D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2T22:26:15Z</dcterms:created>
  <dc:creator>Robin Barteluk</dc:creator>
  <dc:description/>
  <dc:language>en-US</dc:language>
  <cp:lastModifiedBy>bergera</cp:lastModifiedBy>
  <dcterms:modified xsi:type="dcterms:W3CDTF">2009-05-19T09:59:36Z</dcterms:modified>
  <cp:revision>2</cp:revision>
  <dc:subject/>
  <dc:title>Quality Manual Structure and Contents</dc:title>
</cp:coreProperties>
</file>